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7B3F-A60A-475A-9434-CE5D51029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D12D-E11B-40C5-A39D-C15C7999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6010-5877-4D1D-AE21-41061282F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94E2-5655-4BD8-904F-F894C18C6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A75B-B8BB-4AEB-9A7B-69CC6A7A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86AF-A05F-4574-BF86-5FF20AC8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D0B9-4C8B-43E4-98C8-593C21E9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7AD6-5C2D-4CDB-BA7B-4D18E0CF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6BEE-2254-467E-99A0-1DFC405E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2ED3-8923-4093-9634-CA586D45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C801-4F9F-4488-9FF2-9DE99166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4138-A8C0-46F1-86F1-8F2BC53D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6822-4E94-448E-8951-C66AD5FDA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nchantedlearning.com/subjects/birds/printouts/Westernmeadowlark.shtml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www.enchantedlearning.com/usa/states/wyoming/" TargetMode="External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bensguide.gpo.gov/3-5/state/wyoming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705720" y="5253120"/>
            <a:ext cx="2438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tc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1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609480"/>
            <a:ext cx="7334280" cy="441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50000">
                      <a:srgbClr val="03d4a8"/>
                    </a:gs>
                    <a:gs pos="100000">
                      <a:srgbClr val="005cbf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Wyoming</a:t>
            </a:r>
            <a:endParaRPr b="0" lang="en-US" sz="1800" spc="1" strike="noStrike">
              <a:ln w="255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50000">
                    <a:srgbClr val="03d4a8"/>
                  </a:gs>
                  <a:gs pos="100000">
                    <a:srgbClr val="005cbf"/>
                  </a:gs>
                </a:gsLst>
                <a:lin ang="81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51920" y="-360"/>
            <a:ext cx="85345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Capital: Cheyen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The population for the last Census in 2000 is 493,78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Entered in the Union: July 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Kristen ITC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, 189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44</a:t>
            </a:r>
            <a:r>
              <a:rPr b="0" lang="en-US" sz="4000" spc="-1" strike="noStrike" baseline="30000">
                <a:solidFill>
                  <a:srgbClr val="000000"/>
                </a:solidFill>
                <a:latin typeface="Kristen ITC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 st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Motto: Equal Righ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Nickname: Equality St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Meaning behind name: Algonquian for “broad plain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324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risten ITC"/>
              </a:rPr>
              <a:t>Flower: Indian Paintbrush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324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risten ITC"/>
              </a:rPr>
              <a:t>Bird: Western Meadowlark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324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risten ITC"/>
              </a:rPr>
              <a:t>Song: Wyoming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2895480"/>
            <a:ext cx="2152800" cy="2082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705720" y="3200400"/>
            <a:ext cx="2438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yoming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/2/11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nchantedlearning.com/usa/states/wyomi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Indian Paintbrush"/>
          <p:cNvPicPr/>
          <p:nvPr/>
        </p:nvPicPr>
        <p:blipFill>
          <a:blip r:embed="rId5"/>
          <a:stretch/>
        </p:blipFill>
        <p:spPr>
          <a:xfrm>
            <a:off x="4114800" y="0"/>
            <a:ext cx="1886040" cy="2514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248520" y="304920"/>
            <a:ext cx="27432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 Native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stilleja Coccinea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/2/11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ttp://www.grownative.org/plants/info.asp?id=1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Wyoming: Map and State Flag"/>
          <p:cNvPicPr/>
          <p:nvPr/>
        </p:nvPicPr>
        <p:blipFill>
          <a:blip r:embed="rId6"/>
          <a:srcRect l="0" t="39774" r="0" b="0"/>
          <a:stretch/>
        </p:blipFill>
        <p:spPr>
          <a:xfrm>
            <a:off x="3657600" y="5029200"/>
            <a:ext cx="1676520" cy="1662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 rot="705000">
            <a:off x="3809520" y="5867280"/>
            <a:ext cx="1295640" cy="271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5896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yom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5334120" y="5396040"/>
            <a:ext cx="2286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n’s Guide for U.S Government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Quick Facts: Wyoming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/2/11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ttp://bensguide.gpo.gov/3-5/state/wyoming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Wyoming: Map and State Flag"/>
          <p:cNvPicPr/>
          <p:nvPr/>
        </p:nvPicPr>
        <p:blipFill>
          <a:blip r:embed="rId1"/>
          <a:srcRect l="0" t="-1513" r="0" b="0"/>
          <a:stretch/>
        </p:blipFill>
        <p:spPr>
          <a:xfrm>
            <a:off x="533520" y="1371600"/>
            <a:ext cx="3025800" cy="5057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 rot="705000">
            <a:off x="1066320" y="4647960"/>
            <a:ext cx="2257560" cy="637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yom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2819520"/>
            <a:ext cx="4876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’s Guide for U.S Governmen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Quick Facts: Wyoming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bensguide.gpo.gov/3-5/state/wyoming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15228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wouldn’t enjoy a state where the motto is ‘Equal Rights’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57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Kristen ITC"/>
              </a:rPr>
              <a:t>Interesting Fact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Kristen ITC"/>
              </a:rPr>
              <a:t>The highest point in Wyoming is at Gannett Peak which is 13,804 feet high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Kristen ITC"/>
              </a:rPr>
              <a:t>The lowest point in Wyoming is at Belle Fourche River 3,099 feet deep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Kristen ITC"/>
              </a:rPr>
              <a:t>A gem you can find: Jad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All images Copyright © 1997 - 2000 WriteLine. All Rights Reserved. Cheyenne Capitol"/>
          <p:cNvPicPr/>
          <p:nvPr/>
        </p:nvPicPr>
        <p:blipFill>
          <a:blip r:embed="rId2"/>
          <a:stretch/>
        </p:blipFill>
        <p:spPr>
          <a:xfrm>
            <a:off x="0" y="762120"/>
            <a:ext cx="4648320" cy="3098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3733920"/>
            <a:ext cx="28954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 from America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heyenne, Wyoming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/3/11, http://www.postcardsfrom.com/t1/990804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yoming was the first government to allow women to vot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All images Copyright © 1997 - 2000 WriteLine. All Rights Reserved. Rodeo"/>
          <p:cNvPicPr/>
          <p:nvPr/>
        </p:nvPicPr>
        <p:blipFill>
          <a:blip r:embed="rId3"/>
          <a:stretch/>
        </p:blipFill>
        <p:spPr>
          <a:xfrm>
            <a:off x="4572000" y="2870280"/>
            <a:ext cx="4343400" cy="2895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876920" y="1523880"/>
            <a:ext cx="36576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 from America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heyenne Frontier Day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/3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ostcardsfrom.com/t1/99080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57913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yoming holds the world’s largest outdoor rodeo, called ‘Daddy of ‘em All!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16:29:00Z</dcterms:created>
  <dc:creator>install</dc:creator>
  <dc:description/>
  <dc:language>en-US</dc:language>
  <cp:lastModifiedBy>install</cp:lastModifiedBy>
  <dcterms:modified xsi:type="dcterms:W3CDTF">2011-03-16T15:55:34Z</dcterms:modified>
  <cp:revision>9</cp:revision>
  <dc:subject/>
  <dc:title>Slide 1</dc:title>
</cp:coreProperties>
</file>